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7F7E-9229-439E-9B67-83B56AA5A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E90-66FC-4250-A87E-846B996DD3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A51-AB71-4F45-9FA7-95C49FD3A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02E2-55F7-4A3C-A892-32F3C5F0A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13A-92B8-45F0-AEE1-BA20E1A435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10A8-8DEE-45DF-87F4-8D1CBA6B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EE60-78F8-4039-A595-791882E3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1603-A240-4ECA-912F-38953B5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5E4D-29F4-4A44-AD4E-197972A7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3EBF-B60C-422C-939A-A146442B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56E-F17E-441A-8270-A5D4EF7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0F17-60E7-4992-9939-37113152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F0F-2DA8-45E1-B6F8-ED1A54C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B68-EF46-4C04-9021-0E614EB9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C7B1-C472-4D5A-ACE4-4E942000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4D3B-E787-4C23-BC94-35022A2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5FE3-BC9A-44C1-9BD5-85787EA1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E0BF-243E-47B0-AFC3-48BCB602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CE35-F9BD-4BE8-BDE0-F443D9E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1D0E-3BBB-4C25-8907-167B80B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9D15-A6F2-41CF-837E-BA8944D7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00C-66DF-4244-A1BC-2CA2EB08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9155-5901-4175-996E-4F65530D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5AE0-D15C-4540-950D-9302E4A1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D3B2-4972-4A1B-A004-7CA7884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4BD3-6DD8-42BB-9F43-61820E05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83AA-88B5-4716-B105-FBE2A46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A597-6DB0-4FC8-88D5-CDADA5B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8FE3-5180-47B7-B4E9-E6DBDC6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FCB-A6BA-4D27-B00C-8F07C21644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BA0-7BA0-4AFE-BD46-A2132C3DF5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755640" y="234468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до чтобы учиться было    радостно  трепетно и победно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. Жи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08000" y="2077560"/>
            <a:ext cx="889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ая песня Высоцкого-это моноспектакль, в котором Высоцкий был и драматургом, и режиссером, и исполни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е люблю любое время года, когда веселых песен не п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403280" y="76500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пишите схемы предложе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836640" y="43178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        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(когда    )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-36360" y="2311560"/>
            <a:ext cx="92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= 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(в котором и  = , и  = , и =  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Кольцо 3"/>
          <p:cNvSpPr/>
          <p:nvPr/>
        </p:nvSpPr>
        <p:spPr>
          <a:xfrm>
            <a:off x="5246640" y="2443320"/>
            <a:ext cx="576360" cy="572760"/>
          </a:xfrm>
          <a:custGeom>
            <a:avLst/>
            <a:gdLst/>
            <a:ahLst/>
            <a:rect l="l" t="t" r="r" b="b"/>
            <a:pathLst>
              <a:path w="576262" h="573087">
                <a:moveTo>
                  <a:pt x="0" y="286544"/>
                </a:moveTo>
                <a:cubicBezTo>
                  <a:pt x="0" y="128290"/>
                  <a:pt x="129001" y="0"/>
                  <a:pt x="288131" y="0"/>
                </a:cubicBezTo>
                <a:cubicBezTo>
                  <a:pt x="447261" y="0"/>
                  <a:pt x="576262" y="128290"/>
                  <a:pt x="576262" y="286544"/>
                </a:cubicBezTo>
                <a:cubicBezTo>
                  <a:pt x="576262" y="444798"/>
                  <a:pt x="447261" y="573088"/>
                  <a:pt x="288131" y="573088"/>
                </a:cubicBezTo>
                <a:cubicBezTo>
                  <a:pt x="129001" y="573088"/>
                  <a:pt x="0" y="444798"/>
                  <a:pt x="0" y="286544"/>
                </a:cubicBezTo>
                <a:close/>
                <a:moveTo>
                  <a:pt x="16471" y="286544"/>
                </a:moveTo>
                <a:cubicBezTo>
                  <a:pt x="16471" y="435701"/>
                  <a:pt x="138097" y="556617"/>
                  <a:pt x="288131" y="556617"/>
                </a:cubicBezTo>
                <a:cubicBezTo>
                  <a:pt x="438165" y="556617"/>
                  <a:pt x="559791" y="435701"/>
                  <a:pt x="559791" y="286544"/>
                </a:cubicBezTo>
                <a:cubicBezTo>
                  <a:pt x="559791" y="137387"/>
                  <a:pt x="438165" y="16471"/>
                  <a:pt x="288131" y="16471"/>
                </a:cubicBezTo>
                <a:cubicBezTo>
                  <a:pt x="138097" y="16471"/>
                  <a:pt x="16471" y="137387"/>
                  <a:pt x="16471" y="286544"/>
                </a:cubicBez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Кольцо 4"/>
          <p:cNvSpPr/>
          <p:nvPr/>
        </p:nvSpPr>
        <p:spPr>
          <a:xfrm>
            <a:off x="6588000" y="2443320"/>
            <a:ext cx="576360" cy="572760"/>
          </a:xfrm>
          <a:custGeom>
            <a:avLst/>
            <a:gdLst/>
            <a:ahLst/>
            <a:rect l="l" t="t" r="r" b="b"/>
            <a:pathLst>
              <a:path w="576263" h="573087">
                <a:moveTo>
                  <a:pt x="0" y="286544"/>
                </a:moveTo>
                <a:cubicBezTo>
                  <a:pt x="0" y="128290"/>
                  <a:pt x="129001" y="0"/>
                  <a:pt x="288132" y="0"/>
                </a:cubicBezTo>
                <a:cubicBezTo>
                  <a:pt x="447263" y="0"/>
                  <a:pt x="576264" y="128290"/>
                  <a:pt x="576264" y="286544"/>
                </a:cubicBezTo>
                <a:cubicBezTo>
                  <a:pt x="576264" y="444798"/>
                  <a:pt x="447263" y="573088"/>
                  <a:pt x="288132" y="573088"/>
                </a:cubicBezTo>
                <a:cubicBezTo>
                  <a:pt x="129001" y="573088"/>
                  <a:pt x="0" y="444798"/>
                  <a:pt x="0" y="286544"/>
                </a:cubicBezTo>
                <a:close/>
                <a:moveTo>
                  <a:pt x="16471" y="286544"/>
                </a:moveTo>
                <a:cubicBezTo>
                  <a:pt x="16471" y="435701"/>
                  <a:pt x="138098" y="556617"/>
                  <a:pt x="288132" y="556617"/>
                </a:cubicBezTo>
                <a:cubicBezTo>
                  <a:pt x="438166" y="556617"/>
                  <a:pt x="559793" y="435701"/>
                  <a:pt x="559793" y="286544"/>
                </a:cubicBezTo>
                <a:cubicBezTo>
                  <a:pt x="559793" y="137387"/>
                  <a:pt x="438166" y="16471"/>
                  <a:pt x="288132" y="16471"/>
                </a:cubicBezTo>
                <a:cubicBezTo>
                  <a:pt x="138098" y="16471"/>
                  <a:pt x="16471" y="137387"/>
                  <a:pt x="16471" y="286544"/>
                </a:cubicBez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Кольцо 5"/>
          <p:cNvSpPr/>
          <p:nvPr/>
        </p:nvSpPr>
        <p:spPr>
          <a:xfrm>
            <a:off x="7956720" y="2409840"/>
            <a:ext cx="576000" cy="573120"/>
          </a:xfrm>
          <a:custGeom>
            <a:avLst/>
            <a:gdLst/>
            <a:ahLst/>
            <a:rect l="l" t="t" r="r" b="b"/>
            <a:pathLst>
              <a:path w="576263" h="573088">
                <a:moveTo>
                  <a:pt x="0" y="286544"/>
                </a:moveTo>
                <a:cubicBezTo>
                  <a:pt x="0" y="128290"/>
                  <a:pt x="129001" y="0"/>
                  <a:pt x="288132" y="0"/>
                </a:cubicBezTo>
                <a:cubicBezTo>
                  <a:pt x="447263" y="0"/>
                  <a:pt x="576264" y="128290"/>
                  <a:pt x="576264" y="286544"/>
                </a:cubicBezTo>
                <a:cubicBezTo>
                  <a:pt x="576264" y="444798"/>
                  <a:pt x="447263" y="573088"/>
                  <a:pt x="288132" y="573088"/>
                </a:cubicBezTo>
                <a:cubicBezTo>
                  <a:pt x="129001" y="573088"/>
                  <a:pt x="0" y="444798"/>
                  <a:pt x="0" y="286544"/>
                </a:cubicBezTo>
                <a:close/>
                <a:moveTo>
                  <a:pt x="16471" y="286544"/>
                </a:moveTo>
                <a:cubicBezTo>
                  <a:pt x="16471" y="435701"/>
                  <a:pt x="138098" y="556617"/>
                  <a:pt x="288132" y="556617"/>
                </a:cubicBezTo>
                <a:cubicBezTo>
                  <a:pt x="438166" y="556617"/>
                  <a:pt x="559793" y="435701"/>
                  <a:pt x="559793" y="286544"/>
                </a:cubicBezTo>
                <a:cubicBezTo>
                  <a:pt x="559793" y="137387"/>
                  <a:pt x="438166" y="16471"/>
                  <a:pt x="288132" y="16471"/>
                </a:cubicBezTo>
                <a:cubicBezTo>
                  <a:pt x="138098" y="16471"/>
                  <a:pt x="16471" y="137387"/>
                  <a:pt x="16471" y="286544"/>
                </a:cubicBez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2411280" y="2178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з.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995640" y="42274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з.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08000" y="21272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900000" y="2116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09440" y="1484280"/>
            <a:ext cx="89060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отрывок из воспоминаний о В. Высоц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схему  предложения №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е значение слова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а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грамматическую основу предложения  №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предложения №13 выпишите все  словосочетания  со  связью соглас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1403280" y="522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плексный анализ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213000" y="260280"/>
            <a:ext cx="593100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Так кем же он все-таки бы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2) Владимир Высоцкий? (3) Кем он был больше всего? (4) Актером? (5) Поэтом? (6) Певцом? (7) Я не зна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8) Знаю только, что он был личностью. (9) Я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0) Вместе с нашими кораблями песни Высоцкого уходят в плавания по морям и океанам нашей планеты. (11) Вместе с самолетами взмывают в неб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2) А однажды даже из космоса донеслос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друг оказался вд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не друг и не враг, а та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3) Эту песню пел звездный дуэт космонавтов в составе В. Коваленкова и А. Иванченк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4) И надо сказать, что все здесь было на высоте. (15) И песня, и исполне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Р. Рождественский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-92160" y="6081840"/>
            <a:ext cx="63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ладими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ц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C:\Users\user\Desktop\vyisotskiy_v_s_1.jpg"/>
          <p:cNvPicPr/>
          <p:nvPr/>
        </p:nvPicPr>
        <p:blipFill>
          <a:blip r:embed="rId1"/>
          <a:stretch/>
        </p:blipFill>
        <p:spPr>
          <a:xfrm>
            <a:off x="41400" y="1700280"/>
            <a:ext cx="3052800" cy="4360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-243000"/>
            <a:ext cx="7715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Ответы по текс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Схема: . СПП с придаточным изъяснительным: […глаг…], (что…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« Бард» (от англ.  и ирланд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d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певец) - народный певец у древних кельтских племён. В средние века бардами называли профессиональных поэтов-певцов, служивших при княжеском дворе в Ирландии, Уэльсе и Шотландии. В наши дни бардами иногда называют создателей авторской пес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 Взмыв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Эту песню, звездный дуэ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1619280" y="692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нструирование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108000" y="1844640"/>
            <a:ext cx="9036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люблю тот край, задумчивый и скромный, … прошло моё дет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не дороги здесь каждый кустик, каждое деревце, каждая трави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знаю, … берёт начало … ручеёк в овраге, … ожерельями рассыпана брусника по … кочкам, … прячутся … гри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меня есть … места, … хочется возвращаться вновь и вн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люблю отдыхать там, … плывут в хороводе берёзки, … звенят на ветру лиловые колокольч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1547640" y="61452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нструирование текс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108000" y="1645560"/>
            <a:ext cx="90360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люблю тот край, задумчивый и скромный, где прошло моё дет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не дороги здесь каждый кустик, каждое деревце, каждая трави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знаю, где берёт начало говорливый ручеёк в овраге, где ожерельями рассыпана брусника по моховым кочкам, где прячутся белые гри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меня есть любимые места, куда хочется возвращаться вновь и вн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люблю отдыхать там, где плывут в хороводе берёзки, где звенят на ветру лиловые колокольч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539640" y="1844640"/>
            <a:ext cx="63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выбор: 1 или 2 за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писать афоризмы. Расставить знаки препинания, составить схемы СП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39640" y="371628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унктуационный анализ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SO00858_"/>
          <p:cNvPicPr/>
          <p:nvPr/>
        </p:nvPicPr>
        <p:blipFill>
          <a:blip r:embed="rId1"/>
          <a:stretch/>
        </p:blipFill>
        <p:spPr>
          <a:xfrm>
            <a:off x="6156360" y="2459160"/>
            <a:ext cx="24033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468360" y="191628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 Сложноподчиненные предложения. Систематизация и обобщение изученног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"/>
          <p:cNvSpPr/>
          <p:nvPr/>
        </p:nvSpPr>
        <p:spPr>
          <a:xfrm>
            <a:off x="5148360" y="2133720"/>
            <a:ext cx="39956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ладимир Высоц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января 1938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июля 198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Users\user\Downloads\unnamed.jpg"/>
          <p:cNvPicPr/>
          <p:nvPr/>
        </p:nvPicPr>
        <p:blipFill>
          <a:blip r:embed="rId1"/>
          <a:stretch/>
        </p:blipFill>
        <p:spPr>
          <a:xfrm>
            <a:off x="250920" y="1465200"/>
            <a:ext cx="4762440" cy="410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1547640" y="692280"/>
            <a:ext cx="7488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ак кем же он все-таки бы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ладимир Высоцкий? Кем он был больше всего?  Актером? Поэтом? Певцом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Я не зна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наю только, что он был личностью. Явле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Р. Рождествен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443320" y="-61920"/>
            <a:ext cx="40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Calibri"/>
              </a:rPr>
              <a:t>Заполни «слепую» сх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2411280" y="620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ЖНЫЕ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Прямая со стрелкой 16"/>
          <p:cNvCxnSpPr/>
          <p:nvPr/>
        </p:nvCxnSpPr>
        <p:spPr>
          <a:xfrm flipH="1">
            <a:off x="2123280" y="1052280"/>
            <a:ext cx="201708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/>
          <p:nvPr/>
        </p:nvCxnSpPr>
        <p:spPr>
          <a:xfrm>
            <a:off x="4572000" y="1052280"/>
            <a:ext cx="2161080" cy="36108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30" name="Прямоугольник 18"/>
          <p:cNvSpPr/>
          <p:nvPr/>
        </p:nvSpPr>
        <p:spPr>
          <a:xfrm flipV="1" rot="10800000">
            <a:off x="611280" y="1124280"/>
            <a:ext cx="2520720" cy="574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5940360" y="1125360"/>
            <a:ext cx="2664000" cy="574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сою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Прямая со стрелкой 20"/>
          <p:cNvCxnSpPr/>
          <p:nvPr/>
        </p:nvCxnSpPr>
        <p:spPr>
          <a:xfrm>
            <a:off x="2340000" y="1557000"/>
            <a:ext cx="4177440" cy="648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33" name="Прямая со стрелкой 21"/>
          <p:cNvCxnSpPr/>
          <p:nvPr/>
        </p:nvCxnSpPr>
        <p:spPr>
          <a:xfrm flipH="1">
            <a:off x="1402920" y="1773000"/>
            <a:ext cx="93744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34" name="Прямоугольник 22"/>
          <p:cNvSpPr/>
          <p:nvPr/>
        </p:nvSpPr>
        <p:spPr>
          <a:xfrm>
            <a:off x="4500720" y="2133720"/>
            <a:ext cx="4248000" cy="57456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179280" y="2133720"/>
            <a:ext cx="4176720" cy="57456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носочин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Прямая со стрелкой 24"/>
          <p:cNvCxnSpPr/>
          <p:nvPr/>
        </p:nvCxnSpPr>
        <p:spPr>
          <a:xfrm flipH="1">
            <a:off x="4426920" y="2708280"/>
            <a:ext cx="2089800" cy="9374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37" name="Прямая со стрелкой 25"/>
          <p:cNvCxnSpPr/>
          <p:nvPr/>
        </p:nvCxnSpPr>
        <p:spPr>
          <a:xfrm>
            <a:off x="6443640" y="2708280"/>
            <a:ext cx="650160" cy="792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38" name="Прямая со стрелкой 26"/>
          <p:cNvCxnSpPr/>
          <p:nvPr/>
        </p:nvCxnSpPr>
        <p:spPr>
          <a:xfrm flipH="1">
            <a:off x="1618920" y="2781360"/>
            <a:ext cx="4682160" cy="1008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39" name="Прямоугольник 27"/>
          <p:cNvSpPr/>
          <p:nvPr/>
        </p:nvSpPr>
        <p:spPr>
          <a:xfrm>
            <a:off x="3132000" y="3573360"/>
            <a:ext cx="2664000" cy="10080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8"/>
          <p:cNvSpPr/>
          <p:nvPr/>
        </p:nvSpPr>
        <p:spPr>
          <a:xfrm>
            <a:off x="5867280" y="3573360"/>
            <a:ext cx="3276720" cy="98604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очные обстоятель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Прямая со стрелкой 29"/>
          <p:cNvCxnSpPr/>
          <p:nvPr/>
        </p:nvCxnSpPr>
        <p:spPr>
          <a:xfrm>
            <a:off x="7380000" y="4652640"/>
            <a:ext cx="1080" cy="36108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42" name="Прямая со стрелкой 30"/>
          <p:cNvCxnSpPr/>
          <p:nvPr/>
        </p:nvCxnSpPr>
        <p:spPr>
          <a:xfrm>
            <a:off x="4427280" y="4724280"/>
            <a:ext cx="1080" cy="218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43" name="Прямая со стрелкой 31"/>
          <p:cNvCxnSpPr/>
          <p:nvPr/>
        </p:nvCxnSpPr>
        <p:spPr>
          <a:xfrm>
            <a:off x="1476000" y="4652640"/>
            <a:ext cx="108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44" name="Прямоугольник 32"/>
          <p:cNvSpPr/>
          <p:nvPr/>
        </p:nvSpPr>
        <p:spPr>
          <a:xfrm>
            <a:off x="324000" y="5157720"/>
            <a:ext cx="2447640" cy="9144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33"/>
          <p:cNvSpPr/>
          <p:nvPr/>
        </p:nvSpPr>
        <p:spPr>
          <a:xfrm>
            <a:off x="3348000" y="5084640"/>
            <a:ext cx="2376360" cy="9367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косве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деж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34"/>
          <p:cNvSpPr/>
          <p:nvPr/>
        </p:nvSpPr>
        <p:spPr>
          <a:xfrm>
            <a:off x="6372360" y="5084640"/>
            <a:ext cx="2376360" cy="9144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35"/>
          <p:cNvSpPr/>
          <p:nvPr/>
        </p:nvSpPr>
        <p:spPr>
          <a:xfrm>
            <a:off x="179280" y="3573360"/>
            <a:ext cx="2521080" cy="93528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2411280" y="620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ЖНЫЕ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3"/>
          <p:cNvCxnSpPr/>
          <p:nvPr/>
        </p:nvCxnSpPr>
        <p:spPr>
          <a:xfrm flipH="1">
            <a:off x="2123280" y="1052280"/>
            <a:ext cx="201708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0" name="Прямая со стрелкой 5"/>
          <p:cNvCxnSpPr/>
          <p:nvPr/>
        </p:nvCxnSpPr>
        <p:spPr>
          <a:xfrm>
            <a:off x="4572000" y="1052280"/>
            <a:ext cx="2161080" cy="36108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51" name="Прямоугольник 6"/>
          <p:cNvSpPr/>
          <p:nvPr/>
        </p:nvSpPr>
        <p:spPr>
          <a:xfrm flipV="1" rot="10800000">
            <a:off x="539280" y="1124280"/>
            <a:ext cx="2519640" cy="574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юз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5940360" y="1125360"/>
            <a:ext cx="2664000" cy="574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сою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Прямая со стрелкой 9"/>
          <p:cNvCxnSpPr/>
          <p:nvPr/>
        </p:nvCxnSpPr>
        <p:spPr>
          <a:xfrm>
            <a:off x="2340000" y="1557000"/>
            <a:ext cx="4177440" cy="648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4" name="Прямая со стрелкой 13"/>
          <p:cNvCxnSpPr/>
          <p:nvPr/>
        </p:nvCxnSpPr>
        <p:spPr>
          <a:xfrm flipH="1">
            <a:off x="1402920" y="1773000"/>
            <a:ext cx="93744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55" name="Прямоугольник 15"/>
          <p:cNvSpPr/>
          <p:nvPr/>
        </p:nvSpPr>
        <p:spPr>
          <a:xfrm>
            <a:off x="4716360" y="2133720"/>
            <a:ext cx="4248360" cy="57456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подчин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6"/>
          <p:cNvSpPr/>
          <p:nvPr/>
        </p:nvSpPr>
        <p:spPr>
          <a:xfrm>
            <a:off x="179280" y="2133720"/>
            <a:ext cx="4176720" cy="57456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носочин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Прямая со стрелкой 18"/>
          <p:cNvCxnSpPr/>
          <p:nvPr/>
        </p:nvCxnSpPr>
        <p:spPr>
          <a:xfrm flipH="1">
            <a:off x="4426920" y="2708280"/>
            <a:ext cx="2089800" cy="9374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8" name="Прямая со стрелкой 23"/>
          <p:cNvCxnSpPr/>
          <p:nvPr/>
        </p:nvCxnSpPr>
        <p:spPr>
          <a:xfrm>
            <a:off x="6443640" y="2708280"/>
            <a:ext cx="650160" cy="792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9" name="Прямая со стрелкой 27"/>
          <p:cNvCxnSpPr/>
          <p:nvPr/>
        </p:nvCxnSpPr>
        <p:spPr>
          <a:xfrm flipH="1">
            <a:off x="1618920" y="2781360"/>
            <a:ext cx="4682160" cy="1008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60" name="Прямоугольник 29"/>
          <p:cNvSpPr/>
          <p:nvPr/>
        </p:nvSpPr>
        <p:spPr>
          <a:xfrm>
            <a:off x="0" y="3573360"/>
            <a:ext cx="3024360" cy="10080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0"/>
          <p:cNvSpPr/>
          <p:nvPr/>
        </p:nvSpPr>
        <p:spPr>
          <a:xfrm>
            <a:off x="3132000" y="3573360"/>
            <a:ext cx="2664000" cy="10080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ъясн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5867280" y="3573360"/>
            <a:ext cx="3276720" cy="98604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очные обстоятель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Прямая со стрелкой 33"/>
          <p:cNvCxnSpPr/>
          <p:nvPr/>
        </p:nvCxnSpPr>
        <p:spPr>
          <a:xfrm>
            <a:off x="7380000" y="4652640"/>
            <a:ext cx="1080" cy="36108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64" name="Прямая со стрелкой 35"/>
          <p:cNvCxnSpPr/>
          <p:nvPr/>
        </p:nvCxnSpPr>
        <p:spPr>
          <a:xfrm>
            <a:off x="4427280" y="4724280"/>
            <a:ext cx="1080" cy="218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65" name="Прямая со стрелкой 41"/>
          <p:cNvCxnSpPr/>
          <p:nvPr/>
        </p:nvCxnSpPr>
        <p:spPr>
          <a:xfrm>
            <a:off x="1476000" y="4652640"/>
            <a:ext cx="1080" cy="4323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166" name="Прямоугольник 42"/>
          <p:cNvSpPr/>
          <p:nvPr/>
        </p:nvSpPr>
        <p:spPr>
          <a:xfrm>
            <a:off x="324000" y="5157720"/>
            <a:ext cx="2447640" cy="9144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й? ч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3348000" y="5084640"/>
            <a:ext cx="2376360" cy="9367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осве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деж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6300720" y="5013360"/>
            <a:ext cx="2374920" cy="9144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? когда?  как?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2"/>
          <p:cNvSpPr/>
          <p:nvPr/>
        </p:nvSpPr>
        <p:spPr>
          <a:xfrm>
            <a:off x="250920" y="2060640"/>
            <a:ext cx="8893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 должен быть наделен фантазией, чтобы творить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(В. Высоцкий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476360" y="6922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унктуационная  разми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73080" y="1773360"/>
            <a:ext cx="903744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 столе стоял букет роз, и аромат цветов наполнял  уютную комна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Я вдруг вспомнил, что  Савелий  еще не успел расседлать лошадей, и поспешно вышел во д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7280" y="1371240"/>
            <a:ext cx="6408720" cy="34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1-определительное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3- определительное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5-изъяснительное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6-обстоятельственно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4T16:55:06Z</dcterms:created>
  <dc:creator>comp</dc:creator>
  <dc:description/>
  <dc:language>en-US</dc:language>
  <cp:lastModifiedBy>user</cp:lastModifiedBy>
  <dcterms:modified xsi:type="dcterms:W3CDTF">2022-01-22T10:32:14Z</dcterms:modified>
  <cp:revision>183</cp:revision>
  <dc:subject/>
  <dc:title>Сложноподчиненные предложения</dc:title>
</cp:coreProperties>
</file>